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lowchart of literature search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Forest plot reporting positive predictive values of diagnoses in the General Practice Research Data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lidity of diagnostic coding within the General Practice Research Database: a systematic re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Nada F Khan, Sian E Harrison, and Peter W R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J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60(572):e128-e13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ch 1, 2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lowchart of literature search resul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66760" y="1079640"/>
            <a:ext cx="77500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66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da F Khan et al. Br J Gen Pract 2010;60:e128-e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est plot reporting positive predictive values of diagnoses in the General Practice Research Databa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657520" y="1079640"/>
            <a:ext cx="47703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6575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ada F Khan et al. Br J Gen Pract 2010;60:e128-e1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0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