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lood pressure recording, control, and antihypertensive therapy in population with hyper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ono or combined blood pressure treatments for patients with hyper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act of the pay-for-performance contract and the management of hypertension in Scottish primary care: a 6-year population-based repeated cross-sectional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Colin R Simpson, Philip C Hannaford, Lewis D Ritchie, Aziz Sheikh, and David Willi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JG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61(588):e443-e45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uly 1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1 by British Journal of General Pract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772400" y="7102440"/>
            <a:ext cx="1828800" cy="2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lood pressure recording, control, and antihypertensive therapy in population with hyperten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772400" y="7102440"/>
            <a:ext cx="1828800" cy="21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9800" y="1490760"/>
            <a:ext cx="8604360" cy="4570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lin R Simpson et al. Br J Gen Pract 2011;61:e443-e4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1 by British Journal of General Pract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no or combined blood pressure treatments for patients with hyperten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772400" y="7102440"/>
            <a:ext cx="1828800" cy="21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633680" y="1079640"/>
            <a:ext cx="681660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33680" y="6583320"/>
            <a:ext cx="43192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lin R Simpson et al. Br J Gen Pract 2011;61:e443-e4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1 by British Journal of General Pract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