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sldImg"/>
          </p:nvPr>
        </p:nvSpPr>
        <p:spPr>
          <a:xfrm>
            <a:off x="1587240" y="1006200"/>
            <a:ext cx="4593960" cy="34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1185480" y="4787640"/>
            <a:ext cx="5405400" cy="38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87600" y="1006560"/>
            <a:ext cx="4595760" cy="344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1185840" y="4787640"/>
            <a:ext cx="5407200" cy="382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568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msgothic"/>
              </a:rPr>
              <a:t>Relative weighted frequencies of responses and branching structure of questions in the GP Patient Survey, 2012–20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4932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9200" y="210132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73944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4932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59200" y="4588200"/>
            <a:ext cx="277092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739440" y="626760"/>
            <a:ext cx="860580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149080" y="458820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3944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49080" y="2101320"/>
            <a:ext cx="41994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739440" y="4588200"/>
            <a:ext cx="8605800" cy="227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887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39440" y="626760"/>
            <a:ext cx="860580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5800" cy="476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863640" indent="-28728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528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7280" indent="-21600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158920" indent="-215640">
              <a:lnSpc>
                <a:spcPct val="93000"/>
              </a:lnSpc>
              <a:spcAft>
                <a:spcPts val="887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39800" y="627120"/>
            <a:ext cx="8604360" cy="12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ess to general practice and visits to accident and emergency departments in England: cross-sectional analysis of a national patient surv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800" y="2259000"/>
            <a:ext cx="8604360" cy="30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y Thomas E Cowling, Matthew J Harris, Hilary C Watt, Daniel C Gibbons, and Azeem Maje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38360" y="5641920"/>
            <a:ext cx="8604000" cy="102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JG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Volume 64(624):e434-e43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June 30, 20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4 by British Journal of General Pract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7772400" y="7102440"/>
            <a:ext cx="1828800" cy="21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358920" y="420840"/>
            <a:ext cx="936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Relative weighted frequencies of responses and branching structure of questions in the GP Patient Survey, 2012–2013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772400" y="7102440"/>
            <a:ext cx="1828800" cy="216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189160" y="1079640"/>
            <a:ext cx="5707080" cy="53942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189160" y="6583320"/>
            <a:ext cx="43196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homas E Cowling et al. Br J Gen Pract 2014;64:e434-e4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08000" y="7289640"/>
            <a:ext cx="5435640" cy="38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85680" indent="-856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©2014 by British Journal of General Pract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